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0B7-874F-4E75-AC42-B0477E4C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625-57D6-4171-88CE-B7A78B46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AA5-354F-4D2C-BBFC-C9CCE662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349-7A98-486E-A8CF-8A42EA37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F010-59DA-49E0-A402-6C3CB042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4713-95B8-497C-9374-E1FCAE0C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29FF-3ED6-4E13-BC1D-7810A0CF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0451-B5F0-436C-8672-14E19AD7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0EE0-43FA-47AA-BC3E-EDD8E619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D561-857A-4CD2-B8C5-AADDF010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103A-A8F4-433E-86C9-5D0EF120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312-50F9-452D-A23C-D1E3D743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2926-63E3-482A-84E4-584316E9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FF88-50D1-43B4-996F-3DC02EEC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FBFF-FAE6-4320-83B3-FF61D75C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20AA-1CB4-4A9C-87B7-266D9FE7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31D5-54F4-49C8-97D8-045A3B71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EFFA-0F55-41C5-89AC-FD43466D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C52-F601-44DF-B04C-9DAFEBF7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910-5BE8-4E70-96CC-A8180BCB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688-5797-41D6-9993-B612BF41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91C-0A6B-41B9-802B-FFF879FD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B76-B1CB-4716-9B3C-953732C3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74B-6958-4C57-AA05-6395F30C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8129-FE10-42A7-B3E8-801AA8ADD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18D0-5B1D-4DF5-B61A-DB2397973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14320" y="133956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Optimizing EMBA Group Work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991960" y="2768760"/>
            <a:ext cx="5248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60.2350 Decis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essor D. Ju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10160" y="5475240"/>
            <a:ext cx="524808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ec Sergey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istine S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utpu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17840" y="1011240"/>
            <a:ext cx="4095720" cy="5505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96160" y="2005920"/>
            <a:ext cx="2027160" cy="87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s the time when each student is supposed to work on a given cla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632640" y="3011400"/>
            <a:ext cx="581040" cy="384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647040" y="2909880"/>
            <a:ext cx="792000" cy="60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5320" y="278244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hank You!  Q&amp;A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ur Solver Model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ptimize efficiency of an EMBA study group’s home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d the following 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’s academic abilitie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evance of each course to student’s career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’s availability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rse time requiremen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eekly homework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Paramete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943280" y="2038320"/>
            <a:ext cx="7068960" cy="2681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ssumption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hours of homework time/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tudents to a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equally weighted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2 students working on each class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udent is working on at least 1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olver Model : Assignmen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54120" y="1517760"/>
            <a:ext cx="7489800" cy="4743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olver Model : Objectiv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554120" y="2144880"/>
            <a:ext cx="6035760" cy="2566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886040" y="4957920"/>
            <a:ext cx="6286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is to minimize average time spent by student on ho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olver Model : Scheduling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08440" y="942840"/>
            <a:ext cx="4751280" cy="586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olver Paramete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24040" y="1216080"/>
            <a:ext cx="7010280" cy="4572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28800" y="5857920"/>
            <a:ext cx="3936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F$44:$F$75 &lt;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olver Parameters Explained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class is relevant to student’s career, the student will work on this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udent will work on at least on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lass will be worked on by at least two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may not work on more hours than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ours assigned to student must be schedu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class may be schedule to one time slot (no overl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assignment and scheduling decision variables are bi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2:29:01Z</dcterms:created>
  <dc:creator>Stern School of Business</dc:creator>
  <dc:description/>
  <cp:keywords/>
  <dc:language>en-US</dc:language>
  <cp:lastModifiedBy>Bugs Bunny</cp:lastModifiedBy>
  <dcterms:modified xsi:type="dcterms:W3CDTF">2006-11-16T02:53:06Z</dcterms:modified>
  <cp:revision>9</cp:revision>
  <dc:subject/>
  <dc:title>Classroom Expec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89511033</vt:lpwstr>
  </property>
</Properties>
</file>